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AB3-9394-483A-AB18-26E8408E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31F-4031-4B1E-BECF-CA78255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D38-4588-46F1-891D-2F3BBCFF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8EB-2E10-475F-BF9F-14137E17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C4E-E66C-4B1D-B1AE-D6AE34C6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ABE-92AA-4696-8CBF-DCB8559E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F17-A555-4DC1-BA8F-12E5315B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675-C676-4693-B298-4C198377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8E8-F797-462A-9000-B4B979E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E59-BE43-4F81-9335-01B921F7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21C-8336-4C17-AF68-8800AFEF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CFA-E86A-417B-88E4-C7812AC1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45E3-5D23-4105-9948-6D5EE1D4D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ff"/>
                </a:solidFill>
                <a:latin typeface="Times New Roman"/>
              </a:rPr>
              <a:t>L’analyse stratégiq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E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Cour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’analyse P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litique/lé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is sur les mono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is sur la protection de l ’envir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tique fi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égulation du commerce ex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oit du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bilité gouverne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5320" y="1676520"/>
            <a:ext cx="3962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Écono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ycles 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Évolution du P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tique moné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ô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venu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ponibilité et coût de l’é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’analyse P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ciocultu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ém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ribution des rev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bilité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ngements de modes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titude envers le travail et le lois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sumér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d’é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532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chn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épenses publiques de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vestissements sur la reche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uvelles découvertes, nouveaux dévelop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tesse des transfer techn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ux d ’obsolesc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e modèle de Po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08040" y="21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200400"/>
            <a:ext cx="1523880" cy="1447920"/>
          </a:xfrm>
          <a:prstGeom prst="ellipse">
            <a:avLst/>
          </a:prstGeom>
          <a:gradFill rotWithShape="0">
            <a:gsLst>
              <a:gs pos="0">
                <a:srgbClr val="9900ff"/>
              </a:gs>
              <a:gs pos="50000">
                <a:srgbClr val="fefefe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écif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800600"/>
            <a:ext cx="1523880" cy="1447920"/>
          </a:xfrm>
          <a:prstGeom prst="ellipse">
            <a:avLst/>
          </a:prstGeom>
          <a:gradFill rotWithShape="0">
            <a:gsLst>
              <a:gs pos="0">
                <a:srgbClr val="9900ff"/>
              </a:gs>
              <a:gs pos="50000">
                <a:srgbClr val="eed7fe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mu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tuel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828800"/>
            <a:ext cx="1638360" cy="1447920"/>
          </a:xfrm>
          <a:prstGeom prst="ellipse">
            <a:avLst/>
          </a:prstGeom>
          <a:gradFill rotWithShape="0">
            <a:gsLst>
              <a:gs pos="0">
                <a:srgbClr val="9900ff"/>
              </a:gs>
              <a:gs pos="50000">
                <a:srgbClr val="f8effe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tégie 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ucture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cur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048120"/>
            <a:ext cx="1524240" cy="1447560"/>
          </a:xfrm>
          <a:prstGeom prst="ellipse">
            <a:avLst/>
          </a:prstGeom>
          <a:gradFill rotWithShape="0">
            <a:gsLst>
              <a:gs pos="0">
                <a:srgbClr val="9900ff"/>
              </a:gs>
              <a:gs pos="50000">
                <a:srgbClr val="eed7fe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7"/>
          </p:cNvCxnSpPr>
          <p:nvPr/>
        </p:nvCxnSpPr>
        <p:spPr>
          <a:xfrm flipV="1">
            <a:off x="2442960" y="2895120"/>
            <a:ext cx="1129320" cy="518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7" idx="5"/>
            <a:endCxn id="78" idx="2"/>
          </p:cNvCxnSpPr>
          <p:nvPr/>
        </p:nvCxnSpPr>
        <p:spPr>
          <a:xfrm>
            <a:off x="2443320" y="4435200"/>
            <a:ext cx="1062720" cy="1089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8" idx="6"/>
            <a:endCxn id="80" idx="3"/>
          </p:cNvCxnSpPr>
          <p:nvPr/>
        </p:nvCxnSpPr>
        <p:spPr>
          <a:xfrm flipV="1">
            <a:off x="5029200" y="4282560"/>
            <a:ext cx="1519920" cy="124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5029200" y="2743200"/>
            <a:ext cx="1371600" cy="6858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352680"/>
            <a:ext cx="0" cy="1447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388620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333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Le modèle des 5 (+ 1)  forces de la concur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3048120"/>
            <a:ext cx="1523880" cy="144756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50000">
                <a:srgbClr val="fefefe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NTENS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 la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CONCURRENCE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676520"/>
            <a:ext cx="1600200" cy="648000"/>
          </a:xfrm>
          <a:prstGeom prst="rect">
            <a:avLst/>
          </a:prstGeom>
          <a:solidFill>
            <a:srgbClr val="ff7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RA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3429000"/>
            <a:ext cx="2286000" cy="642600"/>
          </a:xfrm>
          <a:prstGeom prst="rect">
            <a:avLst/>
          </a:prstGeom>
          <a:solidFill>
            <a:srgbClr val="ff7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 / DISTRIBU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114800"/>
            <a:ext cx="251460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uvoir de négociation des clien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5450040"/>
            <a:ext cx="2009880" cy="642600"/>
          </a:xfrm>
          <a:prstGeom prst="rect">
            <a:avLst/>
          </a:prstGeom>
          <a:solidFill>
            <a:srgbClr val="ff7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ITS DE SUBSTIT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15000"/>
            <a:ext cx="2361960" cy="8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enace des produits ou services substitu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34340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2057400"/>
            <a:ext cx="2050920" cy="8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Menace des ent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tenti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581280"/>
            <a:ext cx="1905120" cy="368280"/>
          </a:xfrm>
          <a:prstGeom prst="rect">
            <a:avLst/>
          </a:prstGeom>
          <a:solidFill>
            <a:srgbClr val="ff7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NISS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962520"/>
            <a:ext cx="236232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uvoir de négociation des fourniss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6245280"/>
            <a:ext cx="52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: M. E. Porter.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Choix Stratégiques et concurren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conomica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, 19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02884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00240" y="2743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438280"/>
            <a:ext cx="106668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a1ebfe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E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828800"/>
            <a:ext cx="297180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ouvoir :  régulateur, client, fournisseur, con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i="1" lang="en-US" sz="4000" spc="-1" strike="noStrike">
                <a:solidFill>
                  <a:srgbClr val="6600cc"/>
                </a:solidFill>
                <a:latin typeface="Times New Roman"/>
              </a:rPr>
              <a:t>Le pouvoir des clients et des fournisse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 pouvoir de clients/distributeurs et des fourniss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relations avec les fournisseurs (en amont) et avec les distributeurs ou les clients (en aval) peuvent réduire les marges de manœuvre d’une orga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’analyse consiste à identifier quel est le pouvoir de négociation de l’organisation par rapport à celui de ses fournisseurs et à celui de ses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i="1" lang="en-US" sz="4000" spc="-1" strike="noStrike">
                <a:solidFill>
                  <a:srgbClr val="6600cc"/>
                </a:solidFill>
                <a:latin typeface="Times New Roman"/>
              </a:rPr>
              <a:t>La menace des substit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 substitut menace-t-il les produits existant d ’obsolesc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itution d ’un produit pour un au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. fax pour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itution indirec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. un nouveau produit rend un autre superf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itutions géné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. produits concurrencent pour parts du budget des mén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bandon pur et simple d’un prod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. l’industrie du tab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i="1" lang="fr-FR" sz="4000" spc="-1" strike="noStrike">
                <a:solidFill>
                  <a:srgbClr val="6600cc"/>
                </a:solidFill>
                <a:latin typeface="Times New Roman"/>
              </a:rPr>
              <a:t>La menace des entrants potenti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s barrières à l’entré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s barrières financièr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économies d’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’intensité capitalistique (ticket d’entré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coûts de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avantages de coût indépendants de la taille (expérience acquise par ancienneté, réputat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i="1" lang="fr-FR" sz="4000" spc="-1" strike="noStrike">
                <a:solidFill>
                  <a:srgbClr val="6600cc"/>
                </a:solidFill>
                <a:latin typeface="Times New Roman"/>
              </a:rPr>
              <a:t>La menace des entrants potentiel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s barrières à l’entré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s barrières de ressources et compétenc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ressources r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s barrières commercial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 ’accès aux réseaux d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réputation (image de marque, notori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i="1" lang="fr-FR" sz="4000" spc="-1" strike="noStrike">
                <a:solidFill>
                  <a:srgbClr val="6600cc"/>
                </a:solidFill>
                <a:latin typeface="Times New Roman"/>
              </a:rPr>
              <a:t>La menace des entrants potentiel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n peut se protéger des entrants potentiels en utilisant diverses techniques de dissuas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 réputation d’agress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 protectionnis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 différ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 prolif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 prix pl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i="1" lang="en-GB" sz="4000" spc="-1" strike="noStrike">
                <a:solidFill>
                  <a:srgbClr val="6600cc"/>
                </a:solidFill>
                <a:latin typeface="Times New Roman"/>
              </a:rPr>
              <a:t>L’intensité concurrenti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’intensité concurrentielle est vive lorsque le secteur est soumis à une forte pression, c’est-à-dire lorsque les barrières à l’entrée sont faibles, la menace des substituts réelle et le pouvoir des acheteurs et des fournisseurs élev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nalyser l’environnement et son impacte sur les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ener une analyse P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tiliser le diamant de Porter et analyser les 5 forces de la concur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éterminer les groupes stratégiques et les différents segments d’un marc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struire la matrice atouts/at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cc"/>
                </a:solidFill>
                <a:latin typeface="Times New Roman"/>
              </a:rPr>
              <a:t>Analyse de cinq forces</a:t>
            </a:r>
            <a:br>
              <a:rPr sz="4000"/>
            </a:br>
            <a:r>
              <a:rPr b="0" i="1" lang="en-GB" sz="4000" spc="-1" strike="noStrike">
                <a:solidFill>
                  <a:srgbClr val="6600cc"/>
                </a:solidFill>
                <a:latin typeface="Times New Roman"/>
              </a:rPr>
              <a:t>L’intensité concurrentiell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rces ayant aussi un impact sur la rivalité entre concurr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’équilibre des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 taux de croissance (cycle de v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’existence et le développement de clients glob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coûts fixes élev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oissance externe (rachats d’autres fi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rières à la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cc"/>
                </a:solidFill>
                <a:latin typeface="-"/>
              </a:rPr>
              <a:t>Analyse de cinq forces</a:t>
            </a:r>
            <a:br>
              <a:rPr sz="4000"/>
            </a:br>
            <a:r>
              <a:rPr b="0" i="1" lang="en-GB" sz="4000" spc="-1" strike="noStrike">
                <a:solidFill>
                  <a:srgbClr val="6600cc"/>
                </a:solidFill>
                <a:latin typeface="-"/>
              </a:rPr>
              <a:t>Le rôle de l’Et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 pouvoir concurrentiel de l’État est f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uvoir de ré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’État comme client et fournisseur domin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current menaçant pour les entreprises priv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cripteur et rassembleur dans de gros proj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anceur : subventions, crédits d’impôts, exemptions de tax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ôle politique : relations diplomatiques et commerciales entre pays, accords de libre échang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600cc"/>
                </a:solidFill>
                <a:latin typeface="Times New Roman"/>
              </a:rPr>
              <a:t>La stratégie e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333cc"/>
                </a:solidFill>
                <a:latin typeface="Times New Roman"/>
              </a:rPr>
              <a:t>Les barrières à l’entrée dans quelques secteurs économiques</a:t>
            </a:r>
            <a:r>
              <a:rPr b="0" lang="fr-CA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cc"/>
                </a:solidFill>
                <a:latin typeface="Times New Roman"/>
              </a:rPr>
              <a:t>Ques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Comment les évolutions de l’environnement peuvent-elles modifier les barrières à l’entrée dans les quatre secteurs mentionné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mpétition et collab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a concurrence entre entreprises n’est pas la seule solution envisage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ns certains cas, la collaboration entre les organisation constitue également une approche convainc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s organisations peuvent être en concurrence sur certains marchés et collaborer sur d’autres, voire simultanément se concurrencer et collabor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ompétition et collaboratio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ypes de collabor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ntre acheteur et vend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fin d’accroître le pouvoir de nég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rmettant de construire des barrières à l’entrée ou d’éviter des substit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fin de surmonter des barrières à l’entrée ou d’améliorer la position concurrenti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0"/>
            <a:ext cx="2210040" cy="951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ésar BAE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iances stratégiques et partenari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Questions clés sur le modèle de 5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elles sont le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forces clé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de l’environnement concurrenti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lles diffèrent selon l’indus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e n’est donc pas seulement l’énumération des 5 (+1) forces qui importe, mais leu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hiérarch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L’hexagone sectoriel : hiérarchisation</a:t>
            </a: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114800"/>
            <a:ext cx="579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209680"/>
            <a:ext cx="518184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1981080"/>
            <a:ext cx="449604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276720" y="2362320"/>
            <a:ext cx="304776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362320"/>
            <a:ext cx="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33760" y="4114800"/>
            <a:ext cx="99036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267080" y="4343400"/>
            <a:ext cx="106704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038120" y="4114440"/>
            <a:ext cx="22860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276720" y="3200400"/>
            <a:ext cx="76176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000" y="1600200"/>
            <a:ext cx="15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tens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oncurrent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1240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ouvoir de négociation des clients et distribu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nace des prod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e substit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200" y="58644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ouvoir de l’É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7336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ouvoir de négociation des fourniss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905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nace des entrants potenti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4840" y="37544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0481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1981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7320" y="4952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6035760"/>
            <a:ext cx="43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7400" y="3110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36640" y="220968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98480" y="372600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7339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6019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9528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Questions clés sur le modèle de 5 force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elles sont le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forces sous-jacent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(identifiées au moyen d’une analyse PEST) qui détermine les forces de la concurr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eut-on prévoir un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évolution des forc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t dans quelle dir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mment les différents concurrents se comportent-ils par rapport aux 5(+1) for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elles sont leurs faiblesses par rapport aux forces clés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La position concurrentielle d’une organis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s frontières de l’industrie sont parfois imprécises, ce qui empêche de délimiter la concurrence avec pré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a détermination de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groupes stratégique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consiste à réunir les organisations dont les caractéristiques stratégiques sont similaires, qui suivent des stratégies comparables ou qui s’appuient sur les mêmes facteurs de compétitivité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Groupes stratég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icateurs pour déterminer les différences entre organisa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versité des produits (ou des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tension géo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mbre de segments de marchés couv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éseaux de distribution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mbre de marques dét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forts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égration verti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’analyse stratégique et l’environ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’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nalyse stratégiqu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consiste à comprendre des liens qui existent entre les différentes forces qui affectent une organisation et ses choix stratég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l est nécessaire de déterminer dans quelle mesur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l’environnemen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xerce des contraintes ou recèle des opportunité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Groupes stratégiques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Qualité des produits ou de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Leadership technologique (précurseur ou suive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Capacités de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Position de coû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Utilisation de la capacité de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Politique de 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Niveau d’endet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Structure du capital (entreprise indépendante, fili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Relation avec les groupes d’influence (État, investisseurs)</a:t>
            </a:r>
            <a:r>
              <a:rPr b="0" lang="fr-FR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Segments de march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lors que l’analyse des groupes stratégiques consiste à comprendre les différences entre concurrents effectifs ou potentiels, la détermination de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egments de marché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rche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à identifier des similarités et des différences entre des clients ou des utilisate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egmentation des marchés : quelques critè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actéristiques des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ge, sexe, race, revenu, lieu d’habitation, sensibilité à la nouveauté, style de v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chat, utilis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olume d’achat, fidélité à la marque, type d’utilisation, critères de cho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soins des utilisateurs, caractéristiques recherch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éférences de prix, de marques, caractéristiques souhaitées, qua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Attraits du marché et atouts de l’entrep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La matric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ttraits/atout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ositionne chacun des domaines d’activité stratégique de l’entreprise selon a)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l’attrait de marché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correspondant et b)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les atout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ncurrentiel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selon l ’activité considéré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a matric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ttraits/atout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 un outil permettant de représenter la position concurrentielle d’une firme sur chacun de ses domaines d’activité stratégiques et son portefeuil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Atouts de l’entreprise et attraits du marché : quelques indicate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outs de l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rt de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ce de 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sources financ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sition concurrent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traits 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ille d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aux de cro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de la concur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arrières à l’ent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fit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ég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in d’œu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blèmes sociaux, politiques, légaux, éc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600cc"/>
                </a:solidFill>
                <a:latin typeface="Times New Roman"/>
              </a:rPr>
              <a:t>La stratégie e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333cc"/>
                </a:solidFill>
                <a:latin typeface="Times New Roman"/>
              </a:rPr>
              <a:t>L ’industrie du téléphone en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cc"/>
                </a:solidFill>
                <a:latin typeface="Times New Roman"/>
              </a:rPr>
              <a:t>Question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Du point de vue d ’un opérateur, tel que Itineris, SFR ou Bouygues Teleco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A) Quelles sont les forces de la concurrence les plus import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B) Comment réduire l’impacte négatif de ses for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600cc"/>
                </a:solidFill>
                <a:latin typeface="Times New Roman"/>
              </a:rPr>
              <a:t>La stratégie en action</a:t>
            </a:r>
            <a:br>
              <a:rPr sz="4400"/>
            </a:br>
            <a:r>
              <a:rPr b="0" i="1" lang="fr-CA" sz="4400" spc="-1" strike="noStrike">
                <a:solidFill>
                  <a:srgbClr val="6600cc"/>
                </a:solidFill>
                <a:latin typeface="Times New Roman"/>
              </a:rPr>
              <a:t>Étude de Cas : Jurassic T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cc"/>
                </a:solidFill>
                <a:latin typeface="Times New Roman"/>
              </a:rPr>
              <a:t>Question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A) Effectuez une analyse des 5 (+1) forces de la concurrence du secteur des jou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B) Effectuez cette analyse du point de vue des fabricants jurassiens. Qu’en déduisez vo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Times New Roman"/>
              </a:rPr>
              <a:t>C) A partir de l’analyse B, identifiez les influences environnementales dont l’évolution est incertaine. Construisez quelques scénarios à partir de ces facteurs, en identifiant les implications pour les producteurs jurass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’environnemen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recouvre de nombreuses et diverses influences auxquelles il est difficile de donner un sens utile à la prise de décisions stratégi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 problème ne consiste pas à recenser toutes les influences environnementales, mais à dresser une cartographie qui permette d’identifier celles qui ont un réel impact sur l’organis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’environ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us les conditions de l’environnement sont dynamiques et complexes, plu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l’incertitude environnemental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ugm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’environ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dition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imples et stables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ns des condition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imples et stabl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l’environnement est relativement aisé à comprendre et ne subit pas de changements significa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dition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ynam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ns des conditions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ynamique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les managers doivent appréhender l’environnement futur et pas seulement comprendre le pass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ditions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compl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orsqu’une organisation est confrontée à des conditions complexes, il lui est extrêmement difficile d’appréhender son environn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cc"/>
                </a:solidFill>
                <a:latin typeface="Times New Roman"/>
              </a:rPr>
              <a:t>L’incertitude environnement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371600" y="2513520"/>
            <a:ext cx="7543800" cy="396252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23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DITION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NVIRONNE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1747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Si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ompl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33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St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86728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Dynam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2743200"/>
            <a:ext cx="2209680" cy="10666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nalyse histo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ré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3048120"/>
            <a:ext cx="2362320" cy="990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ef6f6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Décentralisation 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876920"/>
            <a:ext cx="2590920" cy="10666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lan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ar scé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4191120"/>
            <a:ext cx="2743200" cy="10666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Expérience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pprent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L’analyse P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Quels sont facteurs environnementaux qui affectent les organis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S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: facteurs Politiques, Économiques, Sociales, Techno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n peut identifier les influences environnementales qui ont été traditionnellement  importantes pour l’organisation, puis définir dans quelle mesure elles peuvent gagner ou perdre de l’impact dans l’avenir (scénar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3:58:39Z</dcterms:created>
  <dc:creator>Cesar BAENA</dc:creator>
  <dc:description/>
  <dc:language>en-US</dc:language>
  <cp:lastModifiedBy>raimbault</cp:lastModifiedBy>
  <dcterms:modified xsi:type="dcterms:W3CDTF">2002-04-07T11:12:36Z</dcterms:modified>
  <cp:revision>57</cp:revision>
  <dc:subject/>
  <dc:title>L’analyse stratégique </dc:title>
</cp:coreProperties>
</file>